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37960" y="763560"/>
            <a:ext cx="549108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360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dt" idx="7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5547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4398840" y="95547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30EE98-0119-45DC-A637-DEAFE2BA39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38320" y="763560"/>
            <a:ext cx="5495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61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9E275-6C82-41F0-A9BA-C0FECB144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296C-F0B2-4D83-882D-111C9B278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B46-D4DA-4CBF-A611-AA09B58C0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7D30-A4F0-4E2E-ACB5-69942A17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27160-50D5-426E-A6BC-34F225E2B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62C6A-C6D8-4734-8EFB-F832624E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7A40-0C70-4818-9DC9-7C7ACD765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9AF8F-FCA7-4DFA-87CB-EBABA75F8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590A-7139-42CD-BF38-4799FEB1B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622620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27F1-3374-4D5A-BF2F-9DF81D655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04F22-57D4-475D-8C9B-2CA73D71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C2E-FCFD-4F83-A0E9-D4E5DF058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4CFD-F6BA-403A-9B4D-2A53CD571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5389-622C-4B77-9514-8603AA26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1E01-A29D-43C6-AC45-62C4A44DF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F37B-7924-4165-8AA9-A987A6A4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79200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2952360"/>
            <a:ext cx="2919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1008-1F14-4649-98F9-2B1121CBE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DA2B3-214D-4992-A28B-D4A87E1F4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6819-6F7F-411D-91E8-E313EA25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2E6C-DB9B-4910-AA7D-E1695ADC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622620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2507-F256-4D23-BC69-1FCEC04F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755C-26E5-4DCA-954A-48F47EEB0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295236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9FADA-1161-4EDF-93CB-A9BB0954D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792000"/>
            <a:ext cx="44240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2952360"/>
            <a:ext cx="9066240" cy="1972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467B-CCD5-46B4-A6A5-6BC7A3B90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F1BCFB-B8B2-4AD0-9662-96FDB8826C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622620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792000"/>
            <a:ext cx="906624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29040" indent="-3290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537480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537480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537480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1BDB4-9B9A-4661-9528-3BE086EBBB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6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03280" y="6207120"/>
            <a:ext cx="906948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88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  <a:ea typeface="Arial Unicode MS"/>
              </a:rPr>
              <a:t>The Stamp and Townshend 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86280" y="1143000"/>
            <a:ext cx="3771720" cy="395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3280" y="6206760"/>
            <a:ext cx="9067680" cy="129852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o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03280" y="1801800"/>
            <a:ext cx="4424400" cy="211608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149800" y="792000"/>
            <a:ext cx="4424400" cy="41659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mp and Townshend Acts affected most of the coloni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6143760"/>
            <a:ext cx="907092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at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5840" cy="4106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Stamp Acts, colonists had to pay for an official stamp on paper products. This stamp would be on legal documents, licenses, newspapers, and playing car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1600" y="792000"/>
            <a:ext cx="442584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shend acts had colonists pay duties on imported glass, lead, paint, and t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en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3280" y="792000"/>
            <a:ext cx="442584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mp Acts occurred between 1765 and 17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151600" y="792000"/>
            <a:ext cx="4425840" cy="4050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shend Acts occurred between 1767 and 1768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2920" y="62701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Wher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3280" y="791640"/>
            <a:ext cx="442584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mp Act happened in New York, and Boston,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1600" y="791640"/>
            <a:ext cx="4425840" cy="40784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682560" indent="-6811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682560"/>
                <a:tab algn="l" pos="795240"/>
                <a:tab algn="l" pos="1252440"/>
                <a:tab algn="l" pos="1709640"/>
                <a:tab algn="l" pos="2166840"/>
                <a:tab algn="l" pos="2624040"/>
                <a:tab algn="l" pos="3081240"/>
                <a:tab algn="l" pos="3538440"/>
                <a:tab algn="l" pos="3995640"/>
                <a:tab algn="l" pos="4452840"/>
                <a:tab algn="l" pos="4910040"/>
                <a:tab algn="l" pos="5367240"/>
                <a:tab algn="l" pos="5824440"/>
                <a:tab algn="l" pos="6281640"/>
                <a:tab algn="l" pos="6738840"/>
                <a:tab algn="l" pos="7196040"/>
                <a:tab algn="l" pos="7653240"/>
                <a:tab algn="l" pos="8110440"/>
                <a:tab algn="l" pos="8567640"/>
                <a:tab algn="l" pos="9024840"/>
                <a:tab algn="l" pos="94820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ownshend Act happened in Massachuset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2920" y="622620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The Stamp Act - Why/Out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2920" y="791640"/>
            <a:ext cx="90709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 Grenville heard complaints about the Sugar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ed colonists if they had a better pl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mp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ed in March 176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fected most colon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706760" indent="-56736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d to pay for an official sta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61760" indent="-42444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gal documents, licenses, newspapers, pamphlets, and playing car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61760" indent="-42444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be fined or sent to jail for not pay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2920" y="627012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Blackadder ITC"/>
              </a:rPr>
              <a:t>The Townshend Acts- Why/Outcome?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29920" y="685440"/>
            <a:ext cx="907092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wnshend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d duties on imported glass, lead, paint, paper, and 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d for military costs and the salaries of colonial govern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s of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forms allowed tax collectors to search for smuggled goo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2587680" indent="-428760">
              <a:lnSpc>
                <a:spcPct val="93000"/>
              </a:lnSpc>
              <a:spcAft>
                <a:spcPts val="850"/>
              </a:spcAft>
              <a:buClr>
                <a:srgbClr val="ff0000"/>
              </a:buClr>
              <a:buSzPct val="45000"/>
              <a:buFont typeface="Wingdings" charset="2"/>
              <a:buChar char="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tish officials used these to enforce the Townshend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724040" indent="-573120">
              <a:lnSpc>
                <a:spcPct val="93000"/>
              </a:lnSpc>
              <a:spcAft>
                <a:spcPts val="1137"/>
              </a:spcAft>
              <a:buClr>
                <a:srgbClr val="ff0000"/>
              </a:buClr>
              <a:buSzPct val="75000"/>
              <a:buFont typeface="Symbol" charset="2"/>
              <a:buChar char=""/>
              <a:tabLst>
                <a:tab algn="l" pos="428760"/>
                <a:tab algn="l" pos="541440"/>
                <a:tab algn="l" pos="998640"/>
                <a:tab algn="l" pos="1455840"/>
                <a:tab algn="l" pos="1913040"/>
                <a:tab algn="l" pos="2370240"/>
                <a:tab algn="l" pos="2827440"/>
                <a:tab algn="l" pos="3284640"/>
                <a:tab algn="l" pos="3741840"/>
                <a:tab algn="l" pos="4199040"/>
                <a:tab algn="l" pos="4656240"/>
                <a:tab algn="l" pos="5113440"/>
                <a:tab algn="l" pos="5570640"/>
                <a:tab algn="l" pos="6027840"/>
                <a:tab algn="l" pos="6485040"/>
                <a:tab algn="l" pos="6942240"/>
                <a:tab algn="l" pos="7399440"/>
                <a:tab algn="l" pos="7856640"/>
                <a:tab algn="l" pos="8313840"/>
                <a:tab algn="l" pos="8771040"/>
                <a:tab algn="l" pos="922824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ycotted British g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7:25:32Z</dcterms:created>
  <dc:creator/>
  <dc:description/>
  <dc:language>en-US</dc:language>
  <cp:lastModifiedBy/>
  <cp:revision>1</cp:revision>
  <dc:subject/>
  <dc:title/>
</cp:coreProperties>
</file>